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10369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B194-6444-4317-9EC7-F0DCBB253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Some definitions of CS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The key dri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The business 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2BDB-10B6-4991-B411-F36981DB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23B6-C130-41BC-A3CC-D3D8776B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43F-8AF4-4CE0-8843-F6E66F10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6F5-8F34-44CC-8CA9-62AD8378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73BD-21C8-425B-99E3-CE97F7D1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5358-E3E0-456C-A763-EF7A939E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0682-8B0F-4CD8-A09C-3670C404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A915-6B1D-4D1E-9455-7846F457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039B-FF13-4919-84B9-AD70E4A4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DAFD-8E45-4C20-8EDC-82D58634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8102-C0F0-46D5-B6D4-07116C45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80A2-5E5A-4359-A1CC-242AD020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FB74-C84D-400B-A78C-46E685A0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F243-3776-4E59-A269-865FFCCA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90E7-1FF5-4D4F-8541-9B429132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509C-FB03-4A1A-92E1-85B1CB4B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3C0E-6B3E-44F9-AC50-62FB19C0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CF1-2C6D-4732-BC83-89BE6F69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514-2CCE-482A-BF19-F366A514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8671-0D58-46DC-B5C6-9FFA3093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C47-6362-4CAF-9217-5C70C819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3DF-1248-4B32-94EE-D2674669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E876-FB58-49E2-961D-5CFC6029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1E68-1988-4266-BB87-9469E78F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010369"/>
            </a:solidFill>
            <a:ln w="9360">
              <a:solidFill>
                <a:srgbClr val="0103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0369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6165720"/>
              <a:ext cx="1971720" cy="6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36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36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36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1036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369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103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369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103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369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103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369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103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369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187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1036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36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1036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36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848720" y="64008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AF14-A40B-4476-8482-EC8FB0613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10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10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rcRect l="0" t="3659" r="64386" b="3659"/>
          <a:stretch/>
        </p:blipFill>
        <p:spPr>
          <a:xfrm>
            <a:off x="0" y="6161040"/>
            <a:ext cx="219564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10369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1036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36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1036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36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36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3FE6-554B-4F73-B2DE-EE97670DC078}" type="slidenum">
              <a:rPr b="0" lang="en-US" sz="1400" spc="-1" strike="noStrike">
                <a:solidFill>
                  <a:srgbClr val="01036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10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10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692280"/>
            <a:chOff x="0" y="0"/>
            <a:chExt cx="9144000" cy="69228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9144000" cy="692280"/>
            </a:xfrm>
            <a:prstGeom prst="rect">
              <a:avLst/>
            </a:prstGeom>
            <a:solidFill>
              <a:srgbClr val="010369"/>
            </a:solidFill>
            <a:ln w="9360">
              <a:solidFill>
                <a:srgbClr val="0103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0369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971720" cy="67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" descr=""/>
          <p:cNvPicPr/>
          <p:nvPr/>
        </p:nvPicPr>
        <p:blipFill>
          <a:blip r:embed="rId3"/>
          <a:srcRect l="0" t="3659" r="64386" b="3659"/>
          <a:stretch/>
        </p:blipFill>
        <p:spPr>
          <a:xfrm>
            <a:off x="0" y="0"/>
            <a:ext cx="2195640" cy="6969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36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36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36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10369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36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36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1036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3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1036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3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103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3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103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3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1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10369"/>
                </a:solidFill>
                <a:latin typeface="Arial"/>
              </a:rPr>
              <a:t>Building Community Partnerships</a:t>
            </a:r>
            <a:endParaRPr b="0" lang="en-US" sz="4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10369"/>
                </a:solidFill>
                <a:latin typeface="Arial"/>
              </a:rPr>
              <a:t>Engage, Connect, Create </a:t>
            </a: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Conference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Anthony Lupi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26 April 2006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10369"/>
                </a:solidFill>
                <a:latin typeface="Arial"/>
              </a:rPr>
              <a:t>Resources</a:t>
            </a: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People you already know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Local community organisations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Build on existing relationships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Examples from other places – ask them how they did it!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BA8B-D20A-4A38-BD7B-91501B8D1A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10369"/>
                </a:solidFill>
                <a:latin typeface="Arial"/>
              </a:rPr>
              <a:t>Tips and Traps (1)</a:t>
            </a: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Start small &amp; build relationships before partnerships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Be determined – and be prepared to put in the time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Good communication is the key!!!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In-kind resources much easier than cash!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Mutuality is vital – what can you give your partners?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9819-16BC-4397-8540-525D5EF9B7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10369"/>
                </a:solidFill>
                <a:latin typeface="Arial"/>
              </a:rPr>
              <a:t>Tips and Traps (2)</a:t>
            </a: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Decide if you really want to be part of the community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Put someone in charge and build a team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Make sure it is properly resourced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Let your school community know that partnerships are important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Learn from your successes and mistakes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Use the resources from this conference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E8C-CDAA-4C7C-80E9-3307499862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10369"/>
                </a:solidFill>
                <a:latin typeface="Arial"/>
              </a:rPr>
              <a:t>Workshop Resources</a:t>
            </a: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Developing Partnerships – schools &amp; business – A Process Guide</a:t>
            </a:r>
            <a:br>
              <a:rPr sz="2600"/>
            </a:b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Developing Partnerships: an on-line resource list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4D5-3A06-41D0-842B-FEA2695194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32200" cy="6021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76800" y="447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51280" y="692280"/>
            <a:ext cx="59054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369"/>
                </a:solidFill>
                <a:latin typeface="Arial"/>
              </a:rPr>
              <a:t>POSITIVE OUTCOMES</a:t>
            </a:r>
            <a:br>
              <a:rPr sz="4000"/>
            </a:br>
            <a:r>
              <a:rPr b="1" lang="en-US" sz="2000" spc="-1" strike="noStrike">
                <a:solidFill>
                  <a:srgbClr val="010369"/>
                </a:solidFill>
                <a:latin typeface="Arial"/>
              </a:rPr>
              <a:t>CREATING CORPORATE </a:t>
            </a:r>
            <a:br>
              <a:rPr sz="2000"/>
            </a:br>
            <a:r>
              <a:rPr b="1" lang="en-US" sz="2000" spc="-1" strike="noStrike">
                <a:solidFill>
                  <a:srgbClr val="010369"/>
                </a:solidFill>
                <a:latin typeface="Arial"/>
              </a:rPr>
              <a:t>SOCIAL RESPONSIBILITY </a:t>
            </a:r>
            <a:br>
              <a:rPr sz="2000"/>
            </a:b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5280" y="2492280"/>
            <a:ext cx="51483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10369"/>
                </a:solidFill>
                <a:latin typeface="Arial"/>
              </a:rPr>
              <a:t>Working with companies to build: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10369"/>
                </a:solidFill>
                <a:latin typeface="Arial"/>
              </a:rPr>
              <a:t>Outstanding corporate social responsibility and corporate citizenship programs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10369"/>
                </a:solidFill>
                <a:latin typeface="Arial"/>
              </a:rPr>
              <a:t>Mutually beneficial business community partnerships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10369"/>
                </a:solidFill>
                <a:latin typeface="Arial"/>
              </a:rPr>
              <a:t>Strategic community involvement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10369"/>
                </a:solidFill>
                <a:latin typeface="Arial"/>
              </a:rPr>
              <a:t>Triple bottom line reporting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4F8-695F-4670-9CDC-797D0963C4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10369"/>
                </a:solidFill>
                <a:latin typeface="Arial"/>
              </a:rPr>
              <a:t>Some of the companies we work with:</a:t>
            </a:r>
            <a:endParaRPr b="0" lang="en-US" sz="2800" spc="-1" strike="noStrike">
              <a:solidFill>
                <a:srgbClr val="01036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140360" y="2852640"/>
            <a:ext cx="1514160" cy="3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35280" y="1484280"/>
            <a:ext cx="1347840" cy="865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26920" y="1484280"/>
            <a:ext cx="1657440" cy="1346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84360" y="3068640"/>
            <a:ext cx="1944720" cy="1492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7020000" y="2349360"/>
            <a:ext cx="1174680" cy="1295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6516720" y="4005360"/>
            <a:ext cx="1752480" cy="752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6227640" y="1628640"/>
            <a:ext cx="1513080" cy="45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4427640" y="3860640"/>
          <a:ext cx="1216080" cy="857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27640" y="3860640"/>
                    <a:ext cx="121608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84360" y="4869000"/>
          <a:ext cx="3743280" cy="466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4360" y="4869000"/>
                    <a:ext cx="3743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508720" y="4941720"/>
          <a:ext cx="2762280" cy="819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08720" y="4941720"/>
                    <a:ext cx="276228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9AA-B3A8-46DC-9367-0EADD21561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10369"/>
                </a:solidFill>
                <a:latin typeface="Arial"/>
              </a:rPr>
              <a:t>Our Agenda:</a:t>
            </a: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What is a community partnership?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How relevant are partnerships for schools?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What can they deliver?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How do we build successful partnerships?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Some resources…..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AF3A-89BC-4513-90BA-33E8BEFDB6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10369"/>
                </a:solidFill>
                <a:latin typeface="Arial"/>
              </a:rPr>
              <a:t>Community partnerships?</a:t>
            </a: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2492280"/>
            <a:ext cx="1584000" cy="398880"/>
          </a:xfrm>
          <a:prstGeom prst="rect">
            <a:avLst/>
          </a:prstGeom>
          <a:noFill/>
          <a:ln w="9360">
            <a:solidFill>
              <a:srgbClr val="010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10369"/>
                </a:solidFill>
                <a:latin typeface="Arial"/>
              </a:rPr>
              <a:t>Business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0720" y="2492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1036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2349360"/>
            <a:ext cx="2017800" cy="703800"/>
          </a:xfrm>
          <a:prstGeom prst="rect">
            <a:avLst/>
          </a:prstGeom>
          <a:noFill/>
          <a:ln w="9360">
            <a:solidFill>
              <a:srgbClr val="010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10369"/>
                </a:solidFill>
                <a:latin typeface="Arial"/>
              </a:rPr>
              <a:t>Community organisation(s)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19640" y="2349360"/>
            <a:ext cx="360036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10369"/>
                </a:solidFill>
                <a:latin typeface="Arial"/>
              </a:rPr>
              <a:t>Working to achieve</a:t>
            </a:r>
            <a:br>
              <a:rPr sz="2000"/>
            </a:br>
            <a:r>
              <a:rPr b="0" lang="en-AU" sz="2000" spc="-1" strike="noStrike">
                <a:solidFill>
                  <a:srgbClr val="010369"/>
                </a:solidFill>
                <a:latin typeface="Arial"/>
              </a:rPr>
              <a:t>a three-way-win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79840" y="3665520"/>
            <a:ext cx="304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103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10369"/>
                </a:solidFill>
                <a:latin typeface="Arial"/>
              </a:rPr>
              <a:t>Good for the community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  <a:p>
            <a:pPr>
              <a:buClr>
                <a:srgbClr val="0103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10369"/>
                </a:solidFill>
                <a:latin typeface="Arial"/>
              </a:rPr>
              <a:t>Good for the business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  <a:p>
            <a:pPr>
              <a:buClr>
                <a:srgbClr val="0103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10369"/>
                </a:solidFill>
                <a:latin typeface="Arial"/>
              </a:rPr>
              <a:t>Good for the employees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2760" y="5084640"/>
            <a:ext cx="84315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10369"/>
                </a:solidFill>
                <a:latin typeface="Arial"/>
              </a:rPr>
              <a:t>All parties agree on what is to be achieved, and the steps needed to do that.</a:t>
            </a:r>
            <a:endParaRPr b="0" lang="en-US" sz="1800" spc="-1" strike="noStrike">
              <a:solidFill>
                <a:srgbClr val="0103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3080" y="2492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10369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7CE-5BD8-49B9-A803-0EF118006B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10369"/>
                </a:solidFill>
                <a:latin typeface="Arial"/>
              </a:rPr>
              <a:t>Some examples</a:t>
            </a: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Sydney Secondary College + Lend Lease</a:t>
            </a:r>
            <a:br>
              <a:rPr sz="2600"/>
            </a:b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Ultimo Primary School + Mitchell’s</a:t>
            </a:r>
            <a:br>
              <a:rPr sz="2600"/>
            </a:b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James Meehan High + Minter Ellison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FF5C-68C3-4F8C-B3B6-0E1DAEA887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10369"/>
                </a:solidFill>
                <a:latin typeface="Arial"/>
              </a:rPr>
              <a:t>Are they relevant to schools?</a:t>
            </a: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You are part of the community!</a:t>
            </a:r>
            <a:br>
              <a:rPr sz="2600"/>
            </a:b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You have much to offer!</a:t>
            </a:r>
            <a:br>
              <a:rPr sz="2600"/>
            </a:b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Great potential to partner with business to extend learning and educational outcomes</a:t>
            </a:r>
            <a:br>
              <a:rPr sz="2600"/>
            </a:b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Three way partnerships are seen as highly desirable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772-8ED3-495D-B0F3-F9291514B7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10369"/>
                </a:solidFill>
                <a:latin typeface="Arial"/>
              </a:rPr>
              <a:t>Some education partnership deliverables</a:t>
            </a: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Employability – helping students understand work choices and be better equipped to apply for and secure jobs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Basic skills – improving reading &amp; numeracy skills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Mentoring – using direct relationships between students and others to extend learning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06D-92CB-4722-A93E-61EE15DB55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10369"/>
                </a:solidFill>
                <a:latin typeface="Arial"/>
              </a:rPr>
              <a:t>Steps in building a partnership</a:t>
            </a: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47640" y="1557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Be clear on what you want to achieve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Decide on what activities are important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Work out who is responsible for what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3 way easier than 2 way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Do your homework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Become an extrovert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Plan and execute with style and grace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Communicate &amp; celebrate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81A1-5B92-475A-B87B-C7D56A40F4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7:04:16Z</dcterms:created>
  <dc:creator>Anthony Lupi</dc:creator>
  <dc:description/>
  <dc:language>en-US</dc:language>
  <cp:lastModifiedBy>JMartyn2</cp:lastModifiedBy>
  <dcterms:modified xsi:type="dcterms:W3CDTF">2006-04-17T22:53:30Z</dcterms:modified>
  <cp:revision>11</cp:revision>
  <dc:subject/>
  <dc:title>Building Community Partnership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61298440</vt:r8>
  </property>
  <property fmtid="{D5CDD505-2E9C-101B-9397-08002B2CF9AE}" pid="3" name="_AuthorEmail">
    <vt:lpwstr>joanna.bargon@positiveoutcomes.com.au</vt:lpwstr>
  </property>
  <property fmtid="{D5CDD505-2E9C-101B-9397-08002B2CF9AE}" pid="4" name="_AuthorEmailDisplayName">
    <vt:lpwstr>Joanna Bargon</vt:lpwstr>
  </property>
  <property fmtid="{D5CDD505-2E9C-101B-9397-08002B2CF9AE}" pid="5" name="_EmailSubject">
    <vt:lpwstr>Building Community Partnerships - presentation slides and resource materials</vt:lpwstr>
  </property>
  <property fmtid="{D5CDD505-2E9C-101B-9397-08002B2CF9AE}" pid="6" name="_ReviewingToolsShownOnce">
    <vt:lpwstr/>
  </property>
</Properties>
</file>