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10369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DC51-EE7E-4E2E-8DCC-56FDAC9B1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Some definitions of CS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The key dri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The business 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8C86-59CC-4DB4-9297-CA6DDEDB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3B6-3225-4BD2-BA45-9E18F5AD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F043-044A-4123-BC10-03E1108E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2DE6-C707-4A10-8B66-C93947D0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A200-0BDD-4F77-9986-7625FDB5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405F-208F-437A-9000-7CA99E53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F0FA-A35B-4A4F-9B2F-1599A5F1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FA32-3626-4572-BA41-1A2073BC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BB7A-19C4-4EB5-9E5D-A8DA5AE7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AE9B-D151-45F9-B284-5DD0BBEC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7079-A416-4722-B497-71E575B3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729C-7359-480C-93F0-10C59AFD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8997-73AF-40E7-B992-976DE255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9E1B-4663-42C1-9653-556D2789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5811-F08B-445F-9B21-083E9C92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C4E4-F20A-4F3D-88E2-09E6C099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FEBE-B984-4B13-A6A0-228925CD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FA8-2302-418D-A790-E915BF03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4914-674A-400F-BB2A-1F46627B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CA1-71D0-41D7-9558-CC0DB6FE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D80-3D83-458F-BB64-9DBDF225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01E-F422-4731-8068-5308DF67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3F9B-75EF-45C5-8F08-790E1385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C28-36A4-4D6D-82F1-99F9DF0C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010369"/>
            </a:solidFill>
            <a:ln w="9360">
              <a:solidFill>
                <a:srgbClr val="0103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0369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6165720"/>
              <a:ext cx="1971720" cy="6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36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369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36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1036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369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103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369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103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369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103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369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103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369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187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1036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36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1036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36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848720" y="64008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1DFF-7962-4F7C-A23A-7E1960ED7D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10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10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rcRect l="0" t="3659" r="64386" b="3659"/>
          <a:stretch/>
        </p:blipFill>
        <p:spPr>
          <a:xfrm>
            <a:off x="0" y="6161040"/>
            <a:ext cx="219564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10369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1036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36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1036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36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36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CF80-90A6-495D-B2FA-194C19A0B371}" type="slidenum">
              <a:rPr b="0" lang="en-US" sz="1400" spc="-1" strike="noStrike">
                <a:solidFill>
                  <a:srgbClr val="01036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10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10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9144000" cy="692280"/>
            <a:chOff x="0" y="0"/>
            <a:chExt cx="9144000" cy="69228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9144000" cy="692280"/>
            </a:xfrm>
            <a:prstGeom prst="rect">
              <a:avLst/>
            </a:prstGeom>
            <a:solidFill>
              <a:srgbClr val="010369"/>
            </a:solidFill>
            <a:ln w="9360">
              <a:solidFill>
                <a:srgbClr val="0103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0369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971720" cy="67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" descr=""/>
          <p:cNvPicPr/>
          <p:nvPr/>
        </p:nvPicPr>
        <p:blipFill>
          <a:blip r:embed="rId3"/>
          <a:srcRect l="0" t="3659" r="64386" b="3659"/>
          <a:stretch/>
        </p:blipFill>
        <p:spPr>
          <a:xfrm>
            <a:off x="0" y="0"/>
            <a:ext cx="2195640" cy="6969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369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36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36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10369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36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36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1036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3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1036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3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103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3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103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3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1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10369"/>
                </a:solidFill>
                <a:latin typeface="Arial"/>
              </a:rPr>
              <a:t>Building Community Partnerships</a:t>
            </a:r>
            <a:endParaRPr b="0" lang="en-US" sz="4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010369"/>
                </a:solidFill>
                <a:latin typeface="Arial"/>
              </a:rPr>
              <a:t>Engage, Connect, Create </a:t>
            </a: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Conference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Anthony Lupi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26 April 2006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10369"/>
                </a:solidFill>
                <a:latin typeface="Arial"/>
              </a:rPr>
              <a:t>Resources</a:t>
            </a: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People you already know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Local community organisations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Build on existing relationships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Examples from other places – ask them how they did it!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A378-B20D-413E-A570-2C6D88C0FC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10369"/>
                </a:solidFill>
                <a:latin typeface="Arial"/>
              </a:rPr>
              <a:t>Tips and Traps (1)</a:t>
            </a: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Start small &amp; build relationships before partnerships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Be determined – and be prepared to put in the time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Good communication is the key!!!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In-kind resources much easier than cash!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Mutuality is vital – what can you give your partners?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C73C-1F6B-4163-B9B8-F7BDD06655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10369"/>
                </a:solidFill>
                <a:latin typeface="Arial"/>
              </a:rPr>
              <a:t>Tips and Traps (2)</a:t>
            </a: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Decide if you really want to be part of the community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Put someone in charge and build a team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Make sure it is properly resourced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Let your school community know that partnerships are important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Learn from your successes and mistakes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Use the resources from this conference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B2A-34AE-4087-9CA8-52180CDDFA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10369"/>
                </a:solidFill>
                <a:latin typeface="Arial"/>
              </a:rPr>
              <a:t>Workshop Resources</a:t>
            </a: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Developing Partnerships – schools &amp; business – A Process Guide</a:t>
            </a:r>
            <a:br>
              <a:rPr sz="2600"/>
            </a:b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Developing Partnerships: an on-line resource list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11F0-3D67-41CD-AC5A-87336B3715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32200" cy="6021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76800" y="447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51280" y="692280"/>
            <a:ext cx="59054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369"/>
                </a:solidFill>
                <a:latin typeface="Arial"/>
              </a:rPr>
              <a:t>POSITIVE OUTCOMES</a:t>
            </a:r>
            <a:br>
              <a:rPr sz="4000"/>
            </a:br>
            <a:r>
              <a:rPr b="1" lang="en-US" sz="2000" spc="-1" strike="noStrike">
                <a:solidFill>
                  <a:srgbClr val="010369"/>
                </a:solidFill>
                <a:latin typeface="Arial"/>
              </a:rPr>
              <a:t>CREATING CORPORATE </a:t>
            </a:r>
            <a:br>
              <a:rPr sz="2000"/>
            </a:br>
            <a:r>
              <a:rPr b="1" lang="en-US" sz="2000" spc="-1" strike="noStrike">
                <a:solidFill>
                  <a:srgbClr val="010369"/>
                </a:solidFill>
                <a:latin typeface="Arial"/>
              </a:rPr>
              <a:t>SOCIAL RESPONSIBILITY </a:t>
            </a:r>
            <a:br>
              <a:rPr sz="2000"/>
            </a:b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5280" y="2492280"/>
            <a:ext cx="51483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10369"/>
                </a:solidFill>
                <a:latin typeface="Arial"/>
              </a:rPr>
              <a:t>Working with companies to build: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10369"/>
                </a:solidFill>
                <a:latin typeface="Arial"/>
              </a:rPr>
              <a:t>Outstanding corporate social responsibility and corporate citizenship programs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10369"/>
                </a:solidFill>
                <a:latin typeface="Arial"/>
              </a:rPr>
              <a:t>Mutually beneficial business community partnerships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10369"/>
                </a:solidFill>
                <a:latin typeface="Arial"/>
              </a:rPr>
              <a:t>Strategic community involvement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10369"/>
                </a:solidFill>
                <a:latin typeface="Arial"/>
              </a:rPr>
              <a:t>Triple bottom line reporting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FF5-B047-418F-9171-A93416A5C2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10369"/>
                </a:solidFill>
                <a:latin typeface="Arial"/>
              </a:rPr>
              <a:t>Some of the companies we work with:</a:t>
            </a:r>
            <a:endParaRPr b="0" lang="en-US" sz="2800" spc="-1" strike="noStrike">
              <a:solidFill>
                <a:srgbClr val="01036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140360" y="2852640"/>
            <a:ext cx="1514160" cy="3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35280" y="1484280"/>
            <a:ext cx="1347840" cy="865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26920" y="1484280"/>
            <a:ext cx="1657440" cy="1346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84360" y="3068640"/>
            <a:ext cx="1944720" cy="1492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7020000" y="2349360"/>
            <a:ext cx="1174680" cy="1295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6516720" y="4005360"/>
            <a:ext cx="1752480" cy="752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6227640" y="1628640"/>
            <a:ext cx="1513080" cy="45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4427640" y="3860640"/>
          <a:ext cx="1216080" cy="857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27640" y="3860640"/>
                    <a:ext cx="121608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84360" y="4869000"/>
          <a:ext cx="3743280" cy="466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4360" y="4869000"/>
                    <a:ext cx="37432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508720" y="4941720"/>
          <a:ext cx="2762280" cy="819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08720" y="4941720"/>
                    <a:ext cx="276228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C413-A574-4BD6-980D-2D61A29717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10369"/>
                </a:solidFill>
                <a:latin typeface="Arial"/>
              </a:rPr>
              <a:t>Our Agenda:</a:t>
            </a: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What is a community partnership?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How relevant are partnerships for schools?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What can they deliver?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How do we build successful partnerships?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Some resources…..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A7E-015C-4F5B-A2F9-D8EF391E7F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10369"/>
                </a:solidFill>
                <a:latin typeface="Arial"/>
              </a:rPr>
              <a:t>Community partnerships?</a:t>
            </a: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2492280"/>
            <a:ext cx="1584000" cy="398880"/>
          </a:xfrm>
          <a:prstGeom prst="rect">
            <a:avLst/>
          </a:prstGeom>
          <a:noFill/>
          <a:ln w="9360">
            <a:solidFill>
              <a:srgbClr val="010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10369"/>
                </a:solidFill>
                <a:latin typeface="Arial"/>
              </a:rPr>
              <a:t>Business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0720" y="2492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1036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2349360"/>
            <a:ext cx="2017800" cy="703800"/>
          </a:xfrm>
          <a:prstGeom prst="rect">
            <a:avLst/>
          </a:prstGeom>
          <a:noFill/>
          <a:ln w="9360">
            <a:solidFill>
              <a:srgbClr val="010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10369"/>
                </a:solidFill>
                <a:latin typeface="Arial"/>
              </a:rPr>
              <a:t>Community organisation(s)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19640" y="2349360"/>
            <a:ext cx="3600360" cy="7038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3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10369"/>
                </a:solidFill>
                <a:latin typeface="Arial"/>
              </a:rPr>
              <a:t>Working to achieve</a:t>
            </a:r>
            <a:br>
              <a:rPr sz="2000"/>
            </a:br>
            <a:r>
              <a:rPr b="0" lang="en-AU" sz="2000" spc="-1" strike="noStrike">
                <a:solidFill>
                  <a:srgbClr val="010369"/>
                </a:solidFill>
                <a:latin typeface="Arial"/>
              </a:rPr>
              <a:t>a three-way-win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79840" y="3665520"/>
            <a:ext cx="304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103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10369"/>
                </a:solidFill>
                <a:latin typeface="Arial"/>
              </a:rPr>
              <a:t>Good for the community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  <a:p>
            <a:pPr>
              <a:buClr>
                <a:srgbClr val="0103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10369"/>
                </a:solidFill>
                <a:latin typeface="Arial"/>
              </a:rPr>
              <a:t>Good for the business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  <a:p>
            <a:pPr>
              <a:buClr>
                <a:srgbClr val="0103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10369"/>
                </a:solidFill>
                <a:latin typeface="Arial"/>
              </a:rPr>
              <a:t>Good for the employees</a:t>
            </a:r>
            <a:endParaRPr b="0" lang="en-US" sz="20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2760" y="5084640"/>
            <a:ext cx="84315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10369"/>
                </a:solidFill>
                <a:latin typeface="Arial"/>
              </a:rPr>
              <a:t>All parties agree on what is to be achieved, and the steps needed to do that.</a:t>
            </a:r>
            <a:endParaRPr b="0" lang="en-US" sz="1800" spc="-1" strike="noStrike">
              <a:solidFill>
                <a:srgbClr val="0103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3080" y="2492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10369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9FD-F6D2-400C-A39F-F7BF8B7B2A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10369"/>
                </a:solidFill>
                <a:latin typeface="Arial"/>
              </a:rPr>
              <a:t>Some examples</a:t>
            </a: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Sydney Secondary College + Lend Lease</a:t>
            </a:r>
            <a:br>
              <a:rPr sz="2600"/>
            </a:b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Ultimo Primary School + Mitchell’s</a:t>
            </a:r>
            <a:br>
              <a:rPr sz="2600"/>
            </a:b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James Meehan High + Minter Ellison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C9C-9C3B-4D01-984C-66506C4864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10369"/>
                </a:solidFill>
                <a:latin typeface="Arial"/>
              </a:rPr>
              <a:t>Are they relevant to schools?</a:t>
            </a: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You are part of the community!</a:t>
            </a:r>
            <a:br>
              <a:rPr sz="2600"/>
            </a:b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You have much to offer!</a:t>
            </a:r>
            <a:br>
              <a:rPr sz="2600"/>
            </a:b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Great potential to partner with business to extend learning and educational outcomes</a:t>
            </a:r>
            <a:br>
              <a:rPr sz="2600"/>
            </a:b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Three way partnerships are seen as highly desirable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04B3-9CFD-4CA2-B401-295A02DB4F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10369"/>
                </a:solidFill>
                <a:latin typeface="Arial"/>
              </a:rPr>
              <a:t>Some education partnership deliverables</a:t>
            </a: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Employability – helping students understand work choices and be better equipped to apply for and secure jobs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Basic skills – improving reading &amp; numeracy skills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Mentoring – using direct relationships between students and others to extend learning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931E-2744-49EB-986B-6E02D36ADA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10369"/>
                </a:solidFill>
                <a:latin typeface="Arial"/>
              </a:rPr>
              <a:t>Steps in building a partnership</a:t>
            </a:r>
            <a:endParaRPr b="0" lang="en-US" sz="3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47640" y="1557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Be clear on what you want to achieve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Decide on what activities are important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Work out who is responsible for what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3 way easier than 2 way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Do your homework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Become an extrovert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Plan and execute with style and grace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10369"/>
                </a:solidFill>
                <a:latin typeface="Arial"/>
              </a:rPr>
              <a:t>Communicate &amp; celebrate</a:t>
            </a:r>
            <a:endParaRPr b="0" lang="en-US" sz="2600" spc="-1" strike="noStrike">
              <a:solidFill>
                <a:srgbClr val="0103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531-C2C9-45CF-BD1F-7B7EC491E4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7:04:16Z</dcterms:created>
  <dc:creator>Anthony Lupi</dc:creator>
  <dc:description/>
  <dc:language>en-US</dc:language>
  <cp:lastModifiedBy>JMartyn2</cp:lastModifiedBy>
  <dcterms:modified xsi:type="dcterms:W3CDTF">2006-04-17T22:53:30Z</dcterms:modified>
  <cp:revision>11</cp:revision>
  <dc:subject/>
  <dc:title>Building Community Partnership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61298440</vt:r8>
  </property>
  <property fmtid="{D5CDD505-2E9C-101B-9397-08002B2CF9AE}" pid="3" name="_AuthorEmail">
    <vt:lpwstr>joanna.bargon@positiveoutcomes.com.au</vt:lpwstr>
  </property>
  <property fmtid="{D5CDD505-2E9C-101B-9397-08002B2CF9AE}" pid="4" name="_AuthorEmailDisplayName">
    <vt:lpwstr>Joanna Bargon</vt:lpwstr>
  </property>
  <property fmtid="{D5CDD505-2E9C-101B-9397-08002B2CF9AE}" pid="5" name="_EmailSubject">
    <vt:lpwstr>Building Community Partnerships - presentation slides and resource materials</vt:lpwstr>
  </property>
  <property fmtid="{D5CDD505-2E9C-101B-9397-08002B2CF9AE}" pid="6" name="_ReviewingToolsShownOnce">
    <vt:lpwstr/>
  </property>
</Properties>
</file>